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10687"/>
        <c:axId val="36913574"/>
      </c:barChart>
      <c:catAx>
        <c:axId val="53610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13574"/>
        <c:crosses val="autoZero"/>
        <c:auto val="1"/>
        <c:lblAlgn val="ctr"/>
        <c:lblOffset val="100"/>
        <c:noMultiLvlLbl val="0"/>
      </c:catAx>
      <c:valAx>
        <c:axId val="36913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10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B18-DD9F-49F2-8C25-DB86DAC3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2D4-6BBF-4146-A570-2B535231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B45-3280-4110-BE23-C05E0AA8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E16-9E23-430F-8E81-C28F3A80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8A1-BCF6-4B2B-8493-CC03180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C19-5482-4083-B546-039F648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6D1-41E7-4F71-B410-6E096A6B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1F2-5F22-415A-8E95-148B7E1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368-92B6-4EF4-9770-30D1A00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ED6-A609-4334-A97B-512E5F6E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4ED-DD1C-4C09-BE63-EF1DEA8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311-4DE5-4E63-BF00-79B1600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BD281-B3FC-4F25-BCBB-FA4D92816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