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890151"/>
        <c:axId val="66557444"/>
      </c:barChart>
      <c:catAx>
        <c:axId val="648901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57444"/>
        <c:crosses val="autoZero"/>
        <c:auto val="1"/>
        <c:lblAlgn val="ctr"/>
        <c:lblOffset val="100"/>
        <c:noMultiLvlLbl val="0"/>
      </c:catAx>
      <c:valAx>
        <c:axId val="665574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901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7ECE-72B8-4CE7-8D65-9469CCD98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8D81-FA59-4A2B-B89E-EEBC7A9E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3077-0D13-4026-BBE7-017CA6D02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96B8-3DAE-497C-BD25-CED642211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D281-5FF5-4511-ACEB-E01614EF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1563-3109-44E5-A4EE-BF1433E6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60CB-0754-4484-BBB4-8A6A1111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DD38-C353-4471-9DC2-E1299A90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8BCF-2EDD-4D40-84D7-0535BC4A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8795-29FC-4793-90EB-2D8243F3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F435-3DC9-41CC-A94B-88516EDC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DE62-6EFD-4FCC-AA89-D35AB4FE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39F7C-971E-4028-A216-D10E220206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