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94185"/>
        <c:axId val="90378202"/>
      </c:barChart>
      <c:catAx>
        <c:axId val="86394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78202"/>
        <c:crosses val="autoZero"/>
        <c:auto val="1"/>
        <c:lblAlgn val="ctr"/>
        <c:lblOffset val="100"/>
        <c:noMultiLvlLbl val="0"/>
      </c:catAx>
      <c:valAx>
        <c:axId val="90378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94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319-0232-4260-A568-36957602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E81-6083-44AE-BEB3-6251822C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A1D-C04F-4AC8-A0CD-51960604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0CA-0202-4F19-8B26-C439AB7C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8AA-86BE-4C13-A2D1-9957FB5C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B91-0A08-4F62-AE69-96CF161F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B52-EA84-430A-BE59-6028C0A3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146-A565-41BA-B9F0-AFB5AE98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022-7EE5-4882-AF06-D850CD4C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3AE-920C-4D8B-9041-E01ABF33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46D-3FBF-4189-86D3-A0EF0C87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11D-7F04-4BF1-8654-72E993B6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25660-7204-460F-B1AE-4F5C1660A6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