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441359"/>
        <c:axId val="53095666"/>
      </c:barChart>
      <c:catAx>
        <c:axId val="494413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095666"/>
        <c:crosses val="autoZero"/>
        <c:auto val="1"/>
        <c:lblAlgn val="ctr"/>
        <c:lblOffset val="100"/>
        <c:noMultiLvlLbl val="0"/>
      </c:catAx>
      <c:valAx>
        <c:axId val="530956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4413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0326-08DD-46BE-BAC1-8DFC63052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6E11-F016-4B04-9A58-BE300547E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7253-538D-4C84-999A-2AEF3A19B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C8BB-C5D8-45A7-B21E-3EE45BCEC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8C2B-2309-47B2-9362-5B9B99741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DABF-FFBA-4EB4-B5BC-7AD2A71B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C807-0BF0-4C21-BAEA-61E00868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EE14-1729-4027-988A-6DCAFE3D3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89337-C248-44DF-8460-ED58B56B8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D310-B7A5-43D3-94BE-E8A5844E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21C1-F6AE-4019-A3C1-BE9279705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F168-CF75-4317-952E-CCAF7927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0F0D34-F8A8-4BC2-BF85-C1FBD2A3615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