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69070"/>
        <c:axId val="74367283"/>
      </c:barChart>
      <c:catAx>
        <c:axId val="93669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7283"/>
        <c:crosses val="autoZero"/>
        <c:auto val="1"/>
        <c:lblAlgn val="ctr"/>
        <c:lblOffset val="100"/>
        <c:noMultiLvlLbl val="0"/>
      </c:catAx>
      <c:valAx>
        <c:axId val="74367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9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32E-A081-4E41-8CE2-174BD4E5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69A-2F61-4697-8103-BBCADDF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DE2-D894-403D-A424-B873F2C9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191-EBC9-4EA4-AD67-843ED4D9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E35-01CC-4880-BE21-5F79C1C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9D0-4E1C-4CDC-8C9E-34FD9C6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D60-EBDF-4C03-9F5C-83CF504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5E1-C0D9-4723-B17C-3DC6F9B9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979-856B-4359-96E3-213949C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99B-3690-4E5A-85D9-0AFC697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A5E-7DD0-4B76-A7DC-767B21E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46A-CECF-468E-8014-1FBB1BF2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D396-0132-43C9-A26F-983CFB35A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