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79370"/>
        <c:axId val="76419420"/>
      </c:barChart>
      <c:catAx>
        <c:axId val="46479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19420"/>
        <c:crosses val="autoZero"/>
        <c:auto val="1"/>
        <c:lblAlgn val="ctr"/>
        <c:lblOffset val="100"/>
        <c:noMultiLvlLbl val="0"/>
      </c:catAx>
      <c:valAx>
        <c:axId val="76419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79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407-5C69-4D56-88C4-5DF644C6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5BB-0156-4848-856B-0BBC188C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3C1-E6DD-45E9-B3FB-6E93F445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041-7334-4E82-97CC-B87779FE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6C7-36E5-4BF7-964B-E7451823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933-FA13-45EC-8B04-74FE46A4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D59-9C9F-45BE-8EB7-CEB87006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1639-3CF1-495E-8FAF-765850B4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50C-8A82-4F01-B17A-929DE6AF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E85-C65B-4030-ADB5-FE80D89F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CB6-CF42-4034-A454-E77B722A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290-B555-4AD2-BF5A-EB60862D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15FD0-5805-47D5-91A4-7E01D6F94E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