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92261"/>
        <c:axId val="36023942"/>
      </c:barChart>
      <c:catAx>
        <c:axId val="63292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23942"/>
        <c:crosses val="autoZero"/>
        <c:auto val="1"/>
        <c:lblAlgn val="ctr"/>
        <c:lblOffset val="100"/>
        <c:noMultiLvlLbl val="0"/>
      </c:catAx>
      <c:valAx>
        <c:axId val="36023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2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CE1-5AF1-496B-B8C6-64F531EA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E9F-9930-41DA-B6D9-8DE2751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910-9042-4617-A7B6-AE39FA0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F49-1C56-4DA2-8DEA-CFC0E494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DDE-250C-4DD9-8D14-3E7A419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070-8DB6-48D1-B83B-A9B3B700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C90-9377-40A2-B037-A0D8A26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A46-AC96-4A1A-B098-231AEB4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88D-77E0-4BB1-8FB1-55399B1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AC4-30C7-475E-B2CD-272A0A5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30B-AC30-49E6-93E3-E3E2931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0FF-04E1-423F-9832-4AFDAA7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9FE5A-996F-41F2-B82D-2D0253EF8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