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63947"/>
        <c:axId val="96092386"/>
      </c:barChart>
      <c:catAx>
        <c:axId val="18063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2386"/>
        <c:crosses val="autoZero"/>
        <c:auto val="1"/>
        <c:lblAlgn val="ctr"/>
        <c:lblOffset val="100"/>
        <c:noMultiLvlLbl val="0"/>
      </c:catAx>
      <c:valAx>
        <c:axId val="96092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63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219-2709-4653-B105-35DE54AE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110-6B15-4E63-AFB9-75FB0C09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A87-B5E4-424A-B5ED-3BAF84AE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C56-11FA-4E8C-B87D-62A1009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0C5-B883-4E25-85CB-D57AD1E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730-F573-4CE4-AFC3-1B96970D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BF9-097C-403A-BE49-839D561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614-9EEE-40E5-803F-AAD54D1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BFD-56C7-4568-8CB2-099D9C8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245-7A48-420F-A485-9406FC7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68B-C994-4F8D-A58F-80041A09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B98-A42B-4ECD-BEF1-A0BB6ED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E3267-3DA3-45B0-B95A-D04409EB4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