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3564960"/>
        <c:axId val="63449312"/>
      </c:barChart>
      <c:catAx>
        <c:axId val="9356496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3449312"/>
        <c:crosses val="autoZero"/>
        <c:auto val="1"/>
        <c:lblAlgn val="ctr"/>
        <c:lblOffset val="100"/>
        <c:noMultiLvlLbl val="0"/>
      </c:catAx>
      <c:valAx>
        <c:axId val="6344931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356496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0654C-51E1-4596-A3FE-AA47E7336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CB95A-ACD9-4175-8B58-3E00B3360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E58D8-35FB-40B2-8F7E-7416C2767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65CED-7BB6-4376-BA56-34F5C4BC9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FBA7C-6AA3-4A4A-961C-3CCF9AD1C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54B13-EFF4-4C35-B0C3-9D3DA158E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859C4-6E2E-49DF-A814-98CABCA49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2B393-970D-4561-AD61-A910DCA35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A7A62-67A0-497C-B0FD-44DE785DB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74FDE-D927-43C4-A73B-C00D08A3B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CFF80-398C-4C27-A767-49FD12607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A2390-6A4B-4DE3-9C8A-3886E0539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9210E6-EC97-4440-8510-9C4E1EE5587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