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21631"/>
        <c:axId val="87796001"/>
      </c:barChart>
      <c:catAx>
        <c:axId val="981216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96001"/>
        <c:crosses val="autoZero"/>
        <c:auto val="1"/>
        <c:lblAlgn val="ctr"/>
        <c:lblOffset val="100"/>
        <c:noMultiLvlLbl val="0"/>
      </c:catAx>
      <c:valAx>
        <c:axId val="877960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216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F5F-2929-4D34-8A1E-9B2A23BD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150-E7DB-4640-9ECA-43449BF3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5E35-A43E-487B-AB8B-C0B4BD96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C7C9-64B4-49CA-B01E-6A134969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3A2-3704-4240-8B6D-BC55858F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101B-9E76-4406-84EC-EBDE9161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C39-B803-4205-BD78-188C9692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A18A-1468-47D0-9320-FB8F73C4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17A8-2092-4876-8A03-FE65F25D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72E-86B7-40B5-8E1D-535C6235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B56-29C5-4445-A268-17230F43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4EF-13BB-4B25-B4A7-5B0C6426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3D130-6011-417E-872E-B7056429E6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