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33309"/>
        <c:axId val="69837800"/>
      </c:barChart>
      <c:catAx>
        <c:axId val="31033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7800"/>
        <c:crosses val="autoZero"/>
        <c:auto val="1"/>
        <c:lblAlgn val="ctr"/>
        <c:lblOffset val="100"/>
        <c:noMultiLvlLbl val="0"/>
      </c:catAx>
      <c:valAx>
        <c:axId val="69837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3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99C-6A20-4B7A-A104-3E36D1D4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0A1-0B3D-4DF4-847E-8D58B87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040-CC05-49E3-AC17-AAFC8AB8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468-E4AE-4ADB-A8CC-8BD93108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322-EB8A-4DF5-B366-B212C243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897-A4F7-424D-B4D0-BE8559C1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48-822B-40C6-8296-D38D2AF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733-4C74-4FE2-8AAC-8E82F37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8EB-5EC2-427C-82FE-535A633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1FA-AD36-4FE8-B474-ABB7DC4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749-3C0F-4C53-9BD6-18D172D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403-9514-4A4E-9BD6-1685167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7E97E-C5D7-4C16-9DB7-6BB7D6BE7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